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D05-B5BD-4FEC-8560-C7F47311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D1D-C9A9-4D68-B778-3DB2021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D9B-B207-4C4B-B5C9-0CFACFDB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DD1-5545-451F-A0F0-9B0A06B9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FD3-057C-4768-A99E-268062AB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C01-E8A8-4C24-A328-0D5E857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AA8-23C4-4AB9-8D63-D8E11A7A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5F3-44B0-41DE-8AD4-A065B4D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5A2-4FE2-4939-AB94-D4C94B87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00F-9278-403A-8250-6EE1EEE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8F1-A25A-438B-86FE-B1DDC0C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592-F611-4D45-8F61-7DC3C98B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7585D-ECEA-4771-B5FC-BBC8B8DC3E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3"/>
          <p:cNvSpPr/>
          <p:nvPr/>
        </p:nvSpPr>
        <p:spPr>
          <a:xfrm>
            <a:off x="17640" y="19080"/>
            <a:ext cx="912636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.E José Alves Quito extensão sala Francisco Nogueira Sobrin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getec: Giliarde Rodrigues de Arau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tângulo 4"/>
          <p:cNvSpPr/>
          <p:nvPr/>
        </p:nvSpPr>
        <p:spPr>
          <a:xfrm>
            <a:off x="17640" y="969840"/>
            <a:ext cx="9126360" cy="1623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Calibri"/>
              </a:rPr>
              <a:t>Educação Híbrida e o Ambiente Virtual de Ensino e Aprendizagem Mood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eta para baixo 5"/>
          <p:cNvSpPr/>
          <p:nvPr/>
        </p:nvSpPr>
        <p:spPr>
          <a:xfrm>
            <a:off x="4338720" y="2593800"/>
            <a:ext cx="349200" cy="48924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lipse 6"/>
          <p:cNvSpPr/>
          <p:nvPr/>
        </p:nvSpPr>
        <p:spPr>
          <a:xfrm>
            <a:off x="3430440" y="3139920"/>
            <a:ext cx="2389320" cy="18716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mbiente moodle: Vídeos, leituras, áudios</a:t>
            </a: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ector reto 7"/>
          <p:cNvSpPr/>
          <p:nvPr/>
        </p:nvSpPr>
        <p:spPr>
          <a:xfrm>
            <a:off x="5819760" y="4075200"/>
            <a:ext cx="1046160" cy="5094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8"/>
          <p:cNvSpPr/>
          <p:nvPr/>
        </p:nvSpPr>
        <p:spPr>
          <a:xfrm>
            <a:off x="6516720" y="4300560"/>
            <a:ext cx="2387520" cy="1938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Professor: Facilitador e mediador da aprendiz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ector reto 9"/>
          <p:cNvSpPr/>
          <p:nvPr/>
        </p:nvSpPr>
        <p:spPr>
          <a:xfrm flipH="1">
            <a:off x="2339640" y="4075200"/>
            <a:ext cx="1090440" cy="4046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10"/>
          <p:cNvSpPr/>
          <p:nvPr/>
        </p:nvSpPr>
        <p:spPr>
          <a:xfrm>
            <a:off x="3456000" y="5711760"/>
            <a:ext cx="2130480" cy="16844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Ensino Híbr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e 11"/>
          <p:cNvSpPr/>
          <p:nvPr/>
        </p:nvSpPr>
        <p:spPr>
          <a:xfrm>
            <a:off x="3456000" y="8172360"/>
            <a:ext cx="2389320" cy="2435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tividades para fazer em casa, aprendizagem dentro e fora da esc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lipse 14"/>
          <p:cNvSpPr/>
          <p:nvPr/>
        </p:nvSpPr>
        <p:spPr>
          <a:xfrm>
            <a:off x="6684840" y="7461360"/>
            <a:ext cx="2051280" cy="1577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Solucionar confl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ector reto 15"/>
          <p:cNvSpPr/>
          <p:nvPr/>
        </p:nvSpPr>
        <p:spPr>
          <a:xfrm>
            <a:off x="7710480" y="6238800"/>
            <a:ext cx="0" cy="122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ipse 16"/>
          <p:cNvSpPr/>
          <p:nvPr/>
        </p:nvSpPr>
        <p:spPr>
          <a:xfrm>
            <a:off x="727200" y="4076640"/>
            <a:ext cx="1871640" cy="1712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Aluno como Tutor: Aliado do Profe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ector reto 18"/>
          <p:cNvSpPr/>
          <p:nvPr/>
        </p:nvSpPr>
        <p:spPr>
          <a:xfrm flipH="1" flipV="1">
            <a:off x="2517840" y="5219280"/>
            <a:ext cx="992160" cy="10191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lipse 19"/>
          <p:cNvSpPr/>
          <p:nvPr/>
        </p:nvSpPr>
        <p:spPr>
          <a:xfrm>
            <a:off x="3652920" y="11434680"/>
            <a:ext cx="2070000" cy="2084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Integração sala de aula e ambientes virtu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ta para baixo 2073"/>
          <p:cNvSpPr/>
          <p:nvPr/>
        </p:nvSpPr>
        <p:spPr>
          <a:xfrm>
            <a:off x="4352760" y="5121360"/>
            <a:ext cx="335160" cy="474480"/>
          </a:xfrm>
          <a:prstGeom prst="downArrow">
            <a:avLst>
              <a:gd name="adj1" fmla="val 50000"/>
              <a:gd name="adj2" fmla="val 4987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ector reto 2085"/>
          <p:cNvSpPr/>
          <p:nvPr/>
        </p:nvSpPr>
        <p:spPr>
          <a:xfrm flipV="1">
            <a:off x="5586480" y="5955840"/>
            <a:ext cx="127944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ta para baixo 2089"/>
          <p:cNvSpPr/>
          <p:nvPr/>
        </p:nvSpPr>
        <p:spPr>
          <a:xfrm>
            <a:off x="4338720" y="7461360"/>
            <a:ext cx="484200" cy="528480"/>
          </a:xfrm>
          <a:prstGeom prst="down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ta para baixo 2094"/>
          <p:cNvSpPr/>
          <p:nvPr/>
        </p:nvSpPr>
        <p:spPr>
          <a:xfrm>
            <a:off x="4352760" y="10790280"/>
            <a:ext cx="470160" cy="506520"/>
          </a:xfrm>
          <a:prstGeom prst="down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Giliarde</cp:lastModifiedBy>
  <cp:lastPrinted>2015-02-25T21:45:26Z</cp:lastPrinted>
  <dcterms:modified xsi:type="dcterms:W3CDTF">2016-07-09T01:33:16Z</dcterms:modified>
  <cp:revision>267</cp:revision>
  <dc:subject/>
  <dc:title>PowerPoint Presentation</dc:title>
</cp:coreProperties>
</file>